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CC0B-DB6C-463B-A4AB-F8158BB6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B03-A64A-4149-868F-E33D4176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12A-C46C-4BAA-AFAB-BC113598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2CF-28A5-40D0-B99E-1CCBFB21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6A9B-035E-4551-AE01-ADE600EC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AC1E-2031-4A88-AB40-C70D7A7C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C6F7-A9C7-4BA4-A8CB-A47F9C14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09D7-259C-43F7-B09C-83F857AC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39E9-1672-455C-8945-957BF967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2A92-0EDD-41A5-A786-373A79BD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E71F-65F9-4B89-ADC8-BEB7CB75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B49-F611-41A1-84FB-3FE1EDDC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8B0A-FEFF-42B8-AB50-4AA76403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D00D-A0D1-4B22-9D12-21B7F413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E2D2-AEE1-4670-A937-8DF1FA6B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CA9F-173B-4B50-9D46-879B6B46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07A9-9D54-41BA-83CB-A97B8588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33AE7-8715-4F89-932F-BDD0C5B1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AC24-CFAF-4A03-9BDF-D2F15FB3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FEFB8-761C-4089-AEB4-8F74A402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83226-B231-437E-BD8C-43437D7E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5BA8-991C-4F09-8D4F-584918E0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059-4012-409C-B6F0-AA71D7A5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68933-BF93-45DD-A557-3C667940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469F9-AAE0-493A-B5DD-1BA4886F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3AC96-D238-4450-A13F-EB032BB0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5F20-04EB-4311-A374-6D9C53F2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7777E-6C9F-43F3-8218-14F2E6A3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112A4-B9CE-41D5-8B46-6E1BB6E5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C8295-819E-4886-9B95-A874D026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58B4-D4B8-4C1F-AD03-04D77512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551B5-750B-4D3F-87BC-AAA887CE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42B71-472F-4E07-B121-33489CF4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06BC-5296-4414-87AE-DCF777AA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C3937-5F75-4FF3-87F9-2973CB31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6ACE1-205A-49CC-BA9A-FE4C67EA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D5845-924F-4918-AC56-C7C81F1F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EC9DC-067E-429B-8733-4FBDB709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8EB49-2975-4EA6-9619-D09F2F78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F561D-3E04-4D9A-9E54-CC3E3E8E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CF297-787F-4BB4-8A4E-CD3076F2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D68D9-C56B-4F78-90ED-42BFEFEF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96900-EF9A-4A73-9E54-4251F908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2EF-D2DB-493B-BCB8-716D572A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120-6E1E-4E53-A975-0B2980AE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51F-1630-4936-A882-B3AD0EF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C03-D473-4C94-ABD3-5327AE5C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EDC-6DCB-4FF7-A8C2-493CDB16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23E1-6633-48FB-8A60-5979EEBBDED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358A-B497-433C-BD0A-4B048079FA8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B00B-721E-4FFD-B897-11140431BFE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8427-0934-4B4F-9278-0402E2DA068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Какой вред наносит мусор природе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857760"/>
            <a:ext cx="8229600" cy="24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дготовил: ученик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 б класс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олосеев Ив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уководитель: Кузнецова Л.К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МБОУ СОШ №3 г. Агрыз 2016 год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редность мусора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возь стекло не проходит воздух, и под ним образуется мертвая зо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жаркую солнечную погоду кусочек разбитой бутылки может вызвать лесной пожар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сор отнимает у растений и животных место для жизн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сор нарушает красоту природы. Чем будут любоваться люди, которые придут позже? Яичной скорлупой, газетами, банками, пакетами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никает вопрос почему же люди, зная о вреде мусора для природы, продолжают загрязнять её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Вывод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блему мусора нужно решать сейчас и начинать надо, прежде всего, с себя, со своей квартиры, школы, двор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495c"/>
                </a:solidFill>
                <a:latin typeface="Constantia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себя и моих одноклассников я составил памятку. Эту памятку мы с ребятами решили распространить среди учащихся нашей школы и раздать прохожи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5364000" y="4365720"/>
            <a:ext cx="3095640" cy="2376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C:\Documents and Settings\Администратор.SERVER\Рабочий стол\Научная конференция\DSC_3847.jpg"/>
          <p:cNvPicPr/>
          <p:nvPr/>
        </p:nvPicPr>
        <p:blipFill>
          <a:blip r:embed="rId2"/>
          <a:stretch/>
        </p:blipFill>
        <p:spPr>
          <a:xfrm>
            <a:off x="684360" y="4365720"/>
            <a:ext cx="4032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амятка по защите города и мест отдыха от мусор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лесу и парке после отдыха убирайте за собой мусо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брасывайте мусор в специально отведенные мес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аствуйте в организации и проведении субботников по уборке мусора около дома, школы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умайте, как можно ещё использовать старые вещ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бирайте и сдавайте макулатуру, металлолом, пластиковые и стеклянные бутыл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R:\_Соц_выплата\флешка\картинки (1)\flessenboot_b.jpg"/>
          <p:cNvPicPr/>
          <p:nvPr/>
        </p:nvPicPr>
        <p:blipFill>
          <a:blip r:embed="rId1"/>
          <a:stretch/>
        </p:blipFill>
        <p:spPr>
          <a:xfrm>
            <a:off x="6559560" y="1407960"/>
            <a:ext cx="2103480" cy="2362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R:\_Соц_выплата\флешка\картинки (1)\kids-2q-e1362039533240.jpg"/>
          <p:cNvPicPr/>
          <p:nvPr/>
        </p:nvPicPr>
        <p:blipFill>
          <a:blip r:embed="rId2"/>
          <a:stretch/>
        </p:blipFill>
        <p:spPr>
          <a:xfrm>
            <a:off x="284040" y="169704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R:\_Соц_выплата\флешка\картинки (1)\i.jpg"/>
          <p:cNvPicPr/>
          <p:nvPr/>
        </p:nvPicPr>
        <p:blipFill>
          <a:blip r:embed="rId3"/>
          <a:stretch/>
        </p:blipFill>
        <p:spPr>
          <a:xfrm>
            <a:off x="108000" y="4106880"/>
            <a:ext cx="2454120" cy="2297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R:\_Соц_выплата\флешка\картинки (1)\Podelki-iz-shin-dlya-sada-i-ogoroda-svoimi-rukami-34.jpg"/>
          <p:cNvPicPr/>
          <p:nvPr/>
        </p:nvPicPr>
        <p:blipFill>
          <a:blip r:embed="rId4"/>
          <a:stretch/>
        </p:blipFill>
        <p:spPr>
          <a:xfrm>
            <a:off x="3419640" y="1557360"/>
            <a:ext cx="2500200" cy="1785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R:\_Соц_выплата\флешка\картинки (1)\2.jpg"/>
          <p:cNvPicPr/>
          <p:nvPr/>
        </p:nvPicPr>
        <p:blipFill>
          <a:blip r:embed="rId5"/>
          <a:stretch/>
        </p:blipFill>
        <p:spPr>
          <a:xfrm>
            <a:off x="6624720" y="4316400"/>
            <a:ext cx="2352600" cy="205884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250920" y="64296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Мы взяли мусор и добавили к нему вообра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1" descr=""/>
          <p:cNvPicPr/>
          <p:nvPr/>
        </p:nvPicPr>
        <p:blipFill>
          <a:blip r:embed="rId6"/>
          <a:stretch/>
        </p:blipFill>
        <p:spPr>
          <a:xfrm>
            <a:off x="2712960" y="3541680"/>
            <a:ext cx="37846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 flipV="1" rot="10800000">
            <a:off x="1856880" y="1876320"/>
            <a:ext cx="528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живет с человеком приро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с хорошим соседом все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дут чистыми для нар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г и поле, земля и во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" descr="Earth-day-2015"/>
          <p:cNvPicPr/>
          <p:nvPr/>
        </p:nvPicPr>
        <p:blipFill>
          <a:blip r:embed="rId1"/>
          <a:stretch/>
        </p:blipFill>
        <p:spPr>
          <a:xfrm>
            <a:off x="2916360" y="3429000"/>
            <a:ext cx="3836880" cy="28306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3"/>
          <p:cNvSpPr/>
          <p:nvPr/>
        </p:nvSpPr>
        <p:spPr>
          <a:xfrm>
            <a:off x="1143000" y="85716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втрашний день Земли будет таким, каким мы создадим его сегодня. Будем же беречь нашу Землю! Другой планеты у нас не буд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Список литературы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ахрушев А.А., Бурский О.В., Раутиан А.С., «Окружающий мир»-учебник для 2 класс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епанов В.А. «Хрестоматия для маленьких»-М.: Просвещение, 1982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нциклопедия « Большие проблемы маленькой планеты»- М.:Просвещение,1999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Наша окружающая среда»-учебное пособие для учащихся 2-го класс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ижевский А.Е. « Я познаю мир» Экология. Энциклопедия Астрель-2005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Экология и дети» Москва 1993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роблема: Превратится ли наша планета в мусорную цивилизацию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39560" y="220464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 часто слышим «Подними мусор», «Не сори», «Не бросай мусор на землю». А почему люди    бросают мусор везд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ле наступления весны, когда растаял весь снег, мусор можно встретить на обочинах дорог, на улицах, на газонах, под деревьями и кустарник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сор завладел нашим город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R:\_Соц_выплата\флешка\картинки (1)\0002-002-Pochemu-nado-okhranjat-prirod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Цель работы: определить, как бытовые отходы и мусор вредят природе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2" descr="R:\_Соц_выплата\флешка\картинки (1)\priroda-3.jpg"/>
          <p:cNvPicPr/>
          <p:nvPr/>
        </p:nvPicPr>
        <p:blipFill>
          <a:blip r:embed="rId1"/>
          <a:stretch/>
        </p:blipFill>
        <p:spPr>
          <a:xfrm>
            <a:off x="9540720" y="1700280"/>
            <a:ext cx="4927680" cy="3467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Documents and Settings\Администратор.SERVER\Рабочий стол\Научная конференция\Svalka.jpg"/>
          <p:cNvPicPr/>
          <p:nvPr/>
        </p:nvPicPr>
        <p:blipFill>
          <a:blip r:embed="rId2"/>
          <a:stretch/>
        </p:blipFill>
        <p:spPr>
          <a:xfrm>
            <a:off x="9396360" y="2781360"/>
            <a:ext cx="7561440" cy="4773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Documents and Settings\Администратор.SERVER\Рабочий стол\Научная конференция\Foto14510.jpg"/>
          <p:cNvPicPr/>
          <p:nvPr/>
        </p:nvPicPr>
        <p:blipFill>
          <a:blip r:embed="rId3"/>
          <a:stretch/>
        </p:blipFill>
        <p:spPr>
          <a:xfrm>
            <a:off x="1042920" y="1700280"/>
            <a:ext cx="676908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Задачи исследования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знакомиться с литературой по данному вопрос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знать, какие отходы разлагаются быстре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лечь внимание к данной проблеме как можно больше ребят и взрослы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ложить свои пути решения этой проблем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Результаты исследования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 провёл опыт.  По времени он продолжался 3 месяца. Для этого взял два цветочных горшка с почвой. В  почву первого я закопал предметы природного происхождения – очистки от яблока, листики комнатных растений . В почву второго – созданные искусственно человеком : кусочек полиэтиленового пакета, стеклянный пузырёк, кусочек пластиковой бутылки. Почву обоих горшков обильно поливал, чтобы земля всегда была влажной, и поставил горшки в тёплое мест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рез 3 месяца, вскопав почву первого горшка, я ничего не обнаружил кроме самой почвы, тогда как, вскопав почву второго горшка, я увидел все тот же кусочек полиэтиленового пакета, стеклянный пузырёк был на месте , кусочек пластиковой бутылки был прежни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вод- предметы природного происхождения гниют  или их поедают животные, а предметы, созданные человеком, не гниют и не используются животным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Сроки разложения бытовых отходо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азетная бумага, картонные коробки 1-4 месяц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фисная бумага-2 го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ски, железные банки, старая обувь-10 л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ломки кирпича, бетона-100 л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зиновые покрышки-120-140 л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ластиковые бутылки-180-200 л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люминиевые банки- 500 л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екло-1000 л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2"/>
          <p:cNvSpPr/>
          <p:nvPr/>
        </p:nvSpPr>
        <p:spPr>
          <a:xfrm>
            <a:off x="571680" y="714240"/>
            <a:ext cx="80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от поэтому нельзя бросать и оставлять мусор в лесу или на полянах. Природа за сотни лет не сможет от него избави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:\Documents and Settings\Администратор.SERVER\Рабочий стол\Научная конференция\kb003.jpg"/>
          <p:cNvPicPr/>
          <p:nvPr/>
        </p:nvPicPr>
        <p:blipFill>
          <a:blip r:embed="rId1"/>
          <a:stretch/>
        </p:blipFill>
        <p:spPr>
          <a:xfrm>
            <a:off x="1116000" y="2098800"/>
            <a:ext cx="62643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Результаты анкетирован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00040" y="1214280"/>
          <a:ext cx="8229600" cy="5637240"/>
        </p:xfrm>
        <a:graphic>
          <a:graphicData uri="http://schemas.openxmlformats.org/drawingml/2006/table">
            <a:tbl>
              <a:tblPr/>
              <a:tblGrid>
                <a:gridCol w="399960"/>
                <a:gridCol w="2928960"/>
                <a:gridCol w="4900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опросы анк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пространенные отв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95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ыхаете ли вы  с родителями на природе: на речке , в  лес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-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 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3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тречается ли на месте отдыха мусор, оставленный людьми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й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-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: бутылки, пакеты, консервные банки, упаковки от продуктов, остатки еды, пластиковая посуда, грязные тряпки, бумаг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й вред  наносит мусор природ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ничтожает  растения, животных 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грязняет почву,леса,воду,воздух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жет возникнуть пожар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рода становится некрасивой,гибнет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7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вы делаете с мусором, который остается после вас на месте отдых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бираем, привозим в город и выкидываем  в ближайшую  мусорку-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жигаем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10:41:04Z</dcterms:created>
  <dc:creator>010-1111</dc:creator>
  <dc:description/>
  <dc:language>en-US</dc:language>
  <cp:lastModifiedBy>асп</cp:lastModifiedBy>
  <dcterms:modified xsi:type="dcterms:W3CDTF">2016-05-31T20:24:58Z</dcterms:modified>
  <cp:revision>29</cp:revision>
  <dc:subject/>
  <dc:title>Почему нельзя выбрасывать мусор</dc:title>
</cp:coreProperties>
</file>